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1E3-AED6-478F-AAB4-97F6596E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F1B-1E0F-4D7A-B7ED-1190F058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2E4-F6DA-4309-9735-B04C986E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98A-9D92-4B1A-A243-21195C3F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698-2C20-4A6E-AA58-1E98E2A5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8BE-C732-49AF-9138-F73E1369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4DB-BEEA-447F-A3E2-EB089E76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C217-88C3-4F13-BC8B-33A9100C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224-C347-45B7-89C8-2F3857FF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4FE-BB3D-4486-AA00-777BF173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FBF-253F-48C5-B28E-D797E24B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FBA-6D68-48EB-816B-8445AFB3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BBB6-71F1-4311-804C-4304646F8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53352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6868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80880"/>
            <a:ext cx="8839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533520" y="45720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457200" y="38088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18:01:56Z</dcterms:created>
  <dc:creator>Merrillville Community School Corporation</dc:creator>
  <dc:description/>
  <dc:language>en-US</dc:language>
  <cp:lastModifiedBy>User</cp:lastModifiedBy>
  <dcterms:modified xsi:type="dcterms:W3CDTF">2014-09-09T18:09:57Z</dcterms:modified>
  <cp:revision>4</cp:revision>
  <dc:subject/>
  <dc:title>PowerPoint Presentation</dc:title>
</cp:coreProperties>
</file>